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AB5-7330-44FA-98C7-52499C23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FE9-4038-4690-AF8D-229A8FC1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BB1-3DC4-4582-A217-53CBABED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470-3B32-4965-AF0C-3F5381D4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7FE9-C6B3-4315-9211-2877A45C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AD0C-AE17-49A2-A6F1-BE9A943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DDF9-45EC-4EBF-9B1F-0D3D466F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EDA1-AE91-4F38-8D38-DBF66DDB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78E8-603A-46B5-A64E-253F9B2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BDD1-0DBF-4A1F-B154-8779416F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C0CE-EC1B-46E5-B3B5-FEAB4B1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6C9-495B-4CE8-A0CB-6988F597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25F5-53EF-487A-95C0-BD45348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2C5B-D9C2-448E-BD78-EDF8C33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54C0-D8E4-4D87-A481-99C3AD8D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B7B6-8444-4AE7-B135-9A31ABB2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96F2-84EA-4697-A430-CE3DFAE1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DE6-F515-4A2A-B8B6-AA92D84A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E4B-7B7C-4445-B3D5-8E5993D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E97-B969-4E1D-9AD2-6DE10A9D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147-A8A2-41FD-ABF1-0BC27342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F44-BA43-4AC0-904E-35EE4D8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6CB-D8A6-4F48-BF3D-3A67540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6A6-69FE-44FA-AEDB-751061D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978-86CE-4ED0-8C66-BEBD96F5ED8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1908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8961-EFA1-4888-890D-6FC6B221E8E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00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349"/>
              </a:spcBef>
              <a:buClr>
                <a:srgbClr val="afbf3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Chapter 4 </a:t>
            </a:r>
            <a:br>
              <a:rPr sz="3600"/>
            </a:br>
            <a:br>
              <a:rPr sz="24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Informed Search and Explor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Optimality of A*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809880" y="1054080"/>
                <a:ext cx="2133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3657600" y="2895480"/>
          <a:ext cx="502920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895480"/>
                    <a:ext cx="50292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990720"/>
            <a:ext cx="8077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monotoni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ny successor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riangle inequa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and the go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ent heuristic is also admi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using Graph-Search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along any path ar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nde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41480" y="4925880"/>
                <a:ext cx="20732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1295280" y="2895480"/>
          <a:ext cx="16797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1679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22520" y="5383080"/>
                <a:ext cx="25686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95520" y="5840280"/>
                <a:ext cx="2112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  <a:ea typeface="宋体"/>
              </a:rPr>
              <a:t>Properties of A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990720"/>
            <a:ext cx="80773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 is the cost of the optimal solution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expand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might exp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 on the “goal contou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will exp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, which ar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u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ru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eliminating possibilities from consideration without ex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ly effic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any given heuristic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ther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lgorithm is guaranteed to expand fewer nodes than 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 algorithm might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mi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optimal solution if it doe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and all nod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 number of nodes within the goal con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ace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eps all generated nodes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uns out of space long before runs out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Memory-bounded heuristic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77760"/>
            <a:ext cx="80773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erative-deepening A* (IDA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as the cut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ursive best-first search (RB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e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of each node along the path with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of it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member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of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eaf in the “forgotten” subtree so that it can reexpand it later if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s efficient than IDA* but generates excessive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changes m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go back to pick up the second-best path due to the extensi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 increased) of current bes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admi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xity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xity depends on the accuracy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and how often the current best path is 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ial time complexity of Both IDA* and RBF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not check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 other than those on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urrent 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hen search on Graphs – Should hav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used more mem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to store the nodes visited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09480" y="1371600"/>
          <a:ext cx="7696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96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121200" y="7621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raight line 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eu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94080" y="762120"/>
                <a:ext cx="7063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RBFS examp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1433520"/>
            <a:ext cx="8686800" cy="270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7840" y="1447920"/>
            <a:ext cx="8763120" cy="267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77840" y="1434960"/>
            <a:ext cx="8775720" cy="33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Memory-bounded heuristic search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206360"/>
            <a:ext cx="807732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MA* – Simplified MA* (Memory-bounded A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pands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eaf node until memory is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drops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wo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eaf node – the one has the highes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generates the subtree only whe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ll other pat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ave been shown to look worse than the path it has forgo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f there is a solution 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ght be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best general-purp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lgorithm for finding optimal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re is no way to balance the trade off between time an memory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drop the optimality requi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(Admissible) Heurist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9672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54244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886200" cy="194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752480" y="3824280"/>
                <a:ext cx="685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3865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the number of misplaced 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727280" y="4281480"/>
                <a:ext cx="736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514600" y="4321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total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Manhatt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city block)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13080" y="4952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7 tiles are out of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440" y="54100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4+0+3+3+1+0+2+1 =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Effect of heuristic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9907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ffe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ranching fact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# of nodes generated by A*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solution depth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*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a uniform tree of depth d contain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+1 nodes would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ell-designed heuristic would have a value close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better tha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based o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Do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minat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f                    for any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us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ill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pand more nodes than A* us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ith                  will be expa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lar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better, as long as it does not overestima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38280" y="2013120"/>
                <a:ext cx="2971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81400" y="3809880"/>
                <a:ext cx="10620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348000" y="4419720"/>
                <a:ext cx="8301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76520" y="4800600"/>
                <a:ext cx="1925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33920" y="4849920"/>
                <a:ext cx="249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14800" y="4800600"/>
                <a:ext cx="1360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5257800"/>
                <a:ext cx="249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14800" y="5181480"/>
                <a:ext cx="20239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Inventing admissible heurist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9907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rela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simplified) version of the 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rules of the 8-puzze are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laxed so that a tie can mov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y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gives the shortes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rules are relaxed so that a tile can move to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ny adjacent squ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ives the shortes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249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Relaxed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problem with fewer restrictions on th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missible heuristics for the original problem can be derived from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exact) solution to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elax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Key po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the optimal solution cost of a relaxed problem i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 gre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an the optimal solution cost of the original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ich should we choose if none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…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minates any of the oth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n have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est of 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orlds, i.e., use whichever function is most accurate on the curren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ubproblem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missible heuristics for the original problem can also be derived from the solution cost of the sub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earning from experience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330720" y="4879800"/>
                <a:ext cx="2190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search algorithms and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193760"/>
            <a:ext cx="82296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atic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find (or given)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to find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hat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he goal i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rrelev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e.g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queen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 space = set of “complete”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eep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“current” state and try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impr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t, e.g., move to its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very little (constant)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reasonable solutions in large or infinite (continuous) state 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ure)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Optim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 find the best state (optimal configuration ) based on a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bjective 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e.g. reproductive fitness – Darwinian, no goal test and path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901800"/>
            <a:ext cx="7086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ed (Heuristic) search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Greedy) Best-first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dmissible) Heurist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xe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ill-climbing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ed anneal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beam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t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line search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line local 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arning in online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7920"/>
            <a:ext cx="8001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search –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7120" y="1523880"/>
            <a:ext cx="790740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7920"/>
            <a:ext cx="8458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search – state spac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1630440"/>
            <a:ext cx="6858000" cy="383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1066680"/>
            <a:ext cx="861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lev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alue of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objective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heuristic cos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4038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lobal 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4771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848720" y="1447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93356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euristic cos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5486400"/>
            <a:ext cx="861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comple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search algorithm finds a solution if one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8672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 optim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 find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lob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inimum or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1143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es in the direction of increasing value until a “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node data structure only records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it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ither remember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r look beyond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ke climbing Mount Everest in thick fog wit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 am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77920"/>
            <a:ext cx="8458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70866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te-state formulation for 8-qu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or function return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ll possi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 generated by moving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queen to another square in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lumn (8 x 7 = 56 successors for each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heuristic cost 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the number of pairs of queens that are attacking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77920"/>
            <a:ext cx="8458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 -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65200" y="2743200"/>
            <a:ext cx="2725920" cy="2743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960800" y="2743200"/>
            <a:ext cx="2735280" cy="2743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43000" y="5653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moves redu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= 17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653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 minimum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 – greedy local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041480"/>
            <a:ext cx="815328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ll climbing, the greedy local search, often gets st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cal max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p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is higher than each of its neighboring states, but lower than the global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Rid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local maxima that is difficult to navi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04840" y="2584440"/>
            <a:ext cx="2324160" cy="2254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49276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Platea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fl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ea of the state space landsc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flat local maxim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 uphill exi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houl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possible to make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only solve 14% of 8-queen instance but fast (4 step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3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038480" y="2565360"/>
            <a:ext cx="426744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Hill-climbing search –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27000"/>
            <a:ext cx="85341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ideways 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with hope that the plateau is a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stuck in a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nfin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oop when it reache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flat local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s the number of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consecu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ideways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solve 94% of 8-queen instances but slow (21 step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64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1960" y="237492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chastic hill clim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hooses a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ob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selection depends on the steep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 choice hill clim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generates successors to find a better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 the hill climbing algorithms discussed so far ar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ail to find a goal when one exists because they ge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tuck on local ma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andom-restart hill clim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ducts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hill-climbing searches; randomly generated initi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ave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give 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global optim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ndscape consists of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 large amount of porcupi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n a flat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P-hard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Simulated annealing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e hill climbing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with random walk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harden metals by heating metals to a high temperature and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radu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ol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tting a ping-pong ball into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deep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revice in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hum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h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surface to get the ball out of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in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t too h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dislodge it from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imulated 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by shaking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h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at a high temperature) and the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gradu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edu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intensity of the shaking (lower the temper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scape the local minima by allowing some “bad”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ut gradually reduce their size and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Simulated annealing search -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3338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4920" y="4343400"/>
            <a:ext cx="8305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ways accept the good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obability to accept a bad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s exponentially with the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ad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” of the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s exponentially with the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decrea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global optim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ith probability approaching 1 if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ow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low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361040" y="4432320"/>
                <a:ext cx="604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730920" y="5067360"/>
                <a:ext cx="604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Local beam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cal beam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keeps track of 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 rather than jus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successors of al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s the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uccessors from the complete list and rep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uickly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abandons unfruitfu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earches and moves to the space where the most progress is being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Come over here, the grass is greener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lack of diver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mong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tochastic beam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choo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uccesso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at rand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ith the probability of choosing a given successor having a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ncrea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tural selection: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uccess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offspring) if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organism) populate the next generation according to i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fit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90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Genetic Algorith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GA): successor states are generated by combin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rents st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pu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s 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andomly generated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state, calle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individ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is represented as a string over a finite alphabet, e.g. a string of 0s and 1s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8-que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24 bits or 8 digits for their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48720" cy="2342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5029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fit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evaluation)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retur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hig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values for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e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the number of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nattacking pai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que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osing two pairs for reproducing based on the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rob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 proportional to fitness score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osing the similar ones too 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Informed search strategi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7467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ed 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problem-spe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knowledge beyond the problem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s solution mor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fficien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an the uninformed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st-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an 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evaluation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for each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Measures distance to the goal – lowest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queue sorted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increa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rder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we really expand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node fir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! only the one that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ppea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be best based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heuristic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estim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st of the cheapest path from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a goal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eedy best-first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*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宋体"/>
              </a:rPr>
              <a:t>Genetic algorithm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2228760"/>
            <a:ext cx="7848720" cy="2343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320" y="4876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sche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substring in which some of the positions can be lef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unspec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inst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strings that match the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A works best when schemas correspond to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meaningfu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onents of a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10666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crosso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oint i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hosen from the positions in th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rger steps in the state space early and smaller steps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location is subject to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with a small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Greedy best-first search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90720"/>
            <a:ext cx="7467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and the node that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los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he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Straight line 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eu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2057400"/>
          <a:ext cx="7696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696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39880" y="1341360"/>
                <a:ext cx="13716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Greedy best-first search examp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1546200"/>
            <a:ext cx="904680" cy="399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7400" y="1488960"/>
            <a:ext cx="5943600" cy="1155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5800" y="1488960"/>
            <a:ext cx="739152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85800" y="1488960"/>
            <a:ext cx="7467480" cy="27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  <a:ea typeface="宋体"/>
              </a:rPr>
              <a:t>Properties of Greedy best-first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14300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909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95280" y="1538280"/>
            <a:ext cx="7315200" cy="811080"/>
            <a:chOff x="1295280" y="1538280"/>
            <a:chExt cx="7315200" cy="811080"/>
          </a:xfrm>
        </p:grpSpPr>
        <p:sp>
          <p:nvSpPr>
            <p:cNvPr id="105" name=""/>
            <p:cNvSpPr/>
            <p:nvPr/>
          </p:nvSpPr>
          <p:spPr>
            <a:xfrm>
              <a:off x="1295280" y="1538280"/>
              <a:ext cx="73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o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can get stuck in loops, e.g.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as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&gt;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am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gt;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as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gt;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ea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95280" y="1981080"/>
              <a:ext cx="73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complete in finite states with repeated-state chec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71600" y="4114800"/>
            <a:ext cx="6934320" cy="368280"/>
            <a:chOff x="1371600" y="4114800"/>
            <a:chExt cx="6934320" cy="36828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371600" y="4114800"/>
                  <a:ext cx="6858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981080" y="4114800"/>
              <a:ext cx="632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 but a good heuristic function can give dramatic improv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71600" y="5257800"/>
            <a:ext cx="3733920" cy="368280"/>
            <a:chOff x="1371600" y="5257800"/>
            <a:chExt cx="3733920" cy="36828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371600" y="5257800"/>
                  <a:ext cx="6858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981080" y="525780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eeps all nodes in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* search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990720"/>
            <a:ext cx="8077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tion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 =  cost to reach th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estimated cost to the goal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estimated total cost of path through n to the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dmis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optimistic) heu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never overestim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cost to reach the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es the cost of solving the problem is less than it actually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               never overestimates the actual road d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* using Tree-Search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dmi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ge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ub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olutions using Graph-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ght discard the optimal path to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state if it is not th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ne 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bf3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simple solution is to discard the mor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expens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f any two paths found to the same node (extra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112840" y="3505320"/>
                <a:ext cx="706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09480" y="1371600"/>
          <a:ext cx="7696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96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121200" y="7621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 Straight line 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heu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94080" y="762120"/>
                <a:ext cx="7063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* search exampl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1262160"/>
            <a:ext cx="1066680" cy="46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94040" y="1271520"/>
            <a:ext cx="6629400" cy="1154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80880" y="1257480"/>
            <a:ext cx="8305920" cy="185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16000" y="1270080"/>
            <a:ext cx="8572320" cy="2624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41200" y="1270080"/>
            <a:ext cx="8521920" cy="2612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41200" y="1270080"/>
            <a:ext cx="853452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5:15:18Z</dcterms:created>
  <dc:creator/>
  <dc:description/>
  <dc:language>en-US</dc:language>
  <cp:lastModifiedBy>ap</cp:lastModifiedBy>
  <dcterms:modified xsi:type="dcterms:W3CDTF">2003-09-11T16:28:01Z</dcterms:modified>
  <cp:revision>662</cp:revision>
  <dc:subject/>
  <dc:title>Introduction to AI</dc:title>
</cp:coreProperties>
</file>